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ricochet.wav" ContentType="audio/x-wav"/>
  <Override PartName="/ppt/media/image11.wmf" ContentType="image/x-wmf"/>
  <Override PartName="/ppt/media/gunshot.wav" ContentType="audio/x-wav"/>
  <Override PartName="/ppt/media/image7.wmf" ContentType="image/x-wmf"/>
  <Override PartName="/ppt/media/image2.wmf" ContentType="image/x-wmf"/>
  <Override PartName="/ppt/media/image1.wmf" ContentType="image/x-wmf"/>
  <Override PartName="/ppt/media/projctor.wav" ContentType="audio/x-wav"/>
  <Override PartName="/ppt/media/image5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0.wmf" ContentType="image/x-wmf"/>
  <Override PartName="/ppt/media/CHIMES.WAV" ContentType="audio/x-wav"/>
  <Override PartName="/ppt/media/image18.wmf" ContentType="image/x-wmf"/>
  <Override PartName="/ppt/media/image4.wmf" ContentType="image/x-wmf"/>
  <Override PartName="/ppt/media/image21.wmf" ContentType="image/x-wmf"/>
  <Override PartName="/ppt/media/glass.wav" ContentType="audio/x-wav"/>
  <Override PartName="/ppt/media/image6.wmf" ContentType="image/x-wmf"/>
  <Override PartName="/ppt/media/WHOOSH.WAV" ContentType="audio/x-wav"/>
  <Override PartName="/ppt/media/image16.wmf" ContentType="image/x-wmf"/>
  <Override PartName="/ppt/media/image10.wmf" ContentType="image/x-wmf"/>
  <Override PartName="/ppt/media/image12.wmf" ContentType="image/x-wmf"/>
  <Override PartName="/ppt/media/EXPLODE.WAV" ContentType="audio/x-wav"/>
  <Override PartName="/ppt/media/image13.wmf" ContentType="image/x-wmf"/>
  <Override PartName="/ppt/media/image14.wmf" ContentType="image/x-wmf"/>
  <Override PartName="/ppt/media/LASER.WAV" ContentType="audio/x-wav"/>
  <Override PartName="/ppt/media/image17.wmf" ContentType="image/x-wmf"/>
  <Override PartName="/ppt/media/camera.wav" ContentType="audio/x-wav"/>
  <Override PartName="/ppt/media/image15.wmf" ContentType="image/x-wmf"/>
  <Override PartName="/ppt/media/driveby.wav" ContentType="audio/x-wav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641-9105-4B2C-8F73-D80E1414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A0B-380D-418C-93CA-0734FC6B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AF4-2877-46E6-A83F-CC2C116C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8A6-01DF-460B-B392-0952BBDF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D77-274E-4BD6-A9FF-B22154C3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EAE-3970-4099-A7EB-02D30CF0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9C5-0E67-49B0-AE77-067CE81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721-7730-44D8-B752-2DEA552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B5A-6F37-4AC9-892B-5D4D36ED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6EC-60ED-4FE6-AAE1-464D3264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865-D2F1-4EFA-A6E0-5CF78CE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E16-3B45-4584-9DE3-CB78B87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B40-7226-446D-B64A-FD43E82F4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7.wmf"/><Relationship Id="rId41" Type="http://schemas.openxmlformats.org/officeDocument/2006/relationships/audio" Target="../media/CHIMES.WAV"/><Relationship Id="rId42" Type="http://schemas.openxmlformats.org/officeDocument/2006/relationships/audio" Target="../media/camera.wav"/><Relationship Id="rId43" Type="http://schemas.openxmlformats.org/officeDocument/2006/relationships/audio" Target="../media/camera.wav"/><Relationship Id="rId44" Type="http://schemas.openxmlformats.org/officeDocument/2006/relationships/audio" Target="../media/driveby.wav"/><Relationship Id="rId45" Type="http://schemas.openxmlformats.org/officeDocument/2006/relationships/audio" Target="../media/driveby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gunshot.wav"/><Relationship Id="rId49" Type="http://schemas.openxmlformats.org/officeDocument/2006/relationships/audio" Target="../media/gunshot.wav"/><Relationship Id="rId50" Type="http://schemas.openxmlformats.org/officeDocument/2006/relationships/audio" Target="../media/gunshot.wav"/><Relationship Id="rId51" Type="http://schemas.openxmlformats.org/officeDocument/2006/relationships/audio" Target="../media/gunshot.wav"/><Relationship Id="rId52" Type="http://schemas.openxmlformats.org/officeDocument/2006/relationships/audio" Target="../media/gunshot.wav"/><Relationship Id="rId53" Type="http://schemas.openxmlformats.org/officeDocument/2006/relationships/audio" Target="../media/driveby.wav"/><Relationship Id="rId54" Type="http://schemas.openxmlformats.org/officeDocument/2006/relationships/audio" Target="../media/gunshot.wav"/><Relationship Id="rId55" Type="http://schemas.openxmlformats.org/officeDocument/2006/relationships/audio" Target="../media/ricochet.wav"/><Relationship Id="rId56" Type="http://schemas.openxmlformats.org/officeDocument/2006/relationships/audio" Target="../media/gunshot.wav"/><Relationship Id="rId57" Type="http://schemas.openxmlformats.org/officeDocument/2006/relationships/audio" Target="../media/ricochet.wav"/><Relationship Id="rId58" Type="http://schemas.openxmlformats.org/officeDocument/2006/relationships/audio" Target="../media/projctor.wav"/><Relationship Id="rId59" Type="http://schemas.openxmlformats.org/officeDocument/2006/relationships/audio" Target="../media/EXPLODE.WAV"/><Relationship Id="rId60" Type="http://schemas.openxmlformats.org/officeDocument/2006/relationships/audio" Target="../media/EXPLODE.WAV"/><Relationship Id="rId61" Type="http://schemas.openxmlformats.org/officeDocument/2006/relationships/audio" Target="../media/EXPLODE.WAV"/><Relationship Id="rId62" Type="http://schemas.openxmlformats.org/officeDocument/2006/relationships/audio" Target="../media/EXPLODE.WAV"/><Relationship Id="rId63" Type="http://schemas.openxmlformats.org/officeDocument/2006/relationships/audio" Target="../media/projctor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audio" Target="../media/glass.wav"/><Relationship Id="rId68" Type="http://schemas.openxmlformats.org/officeDocument/2006/relationships/audio" Target="../media/EXPLODE.WAV"/><Relationship Id="rId69" Type="http://schemas.openxmlformats.org/officeDocument/2006/relationships/audio" Target="../media/EXPLODE.WAV"/><Relationship Id="rId70" Type="http://schemas.openxmlformats.org/officeDocument/2006/relationships/audio" Target="../media/EXPLODE.WAV"/><Relationship Id="rId71" Type="http://schemas.openxmlformats.org/officeDocument/2006/relationships/audio" Target="../media/EXPLODE.WAV"/><Relationship Id="rId72" Type="http://schemas.openxmlformats.org/officeDocument/2006/relationships/audio" Target="../media/EXPLODE.WAV"/><Relationship Id="rId73" Type="http://schemas.openxmlformats.org/officeDocument/2006/relationships/audio" Target="../media/EXPLODE.WAV"/><Relationship Id="rId74" Type="http://schemas.openxmlformats.org/officeDocument/2006/relationships/audio" Target="../media/LASER.WAV"/><Relationship Id="rId75" Type="http://schemas.openxmlformats.org/officeDocument/2006/relationships/audio" Target="../media/LASER.WAV"/><Relationship Id="rId76" Type="http://schemas.openxmlformats.org/officeDocument/2006/relationships/audio" Target="../media/driveby.wav"/><Relationship Id="rId77" Type="http://schemas.openxmlformats.org/officeDocument/2006/relationships/audio" Target="../media/EXPLODE.WAV"/><Relationship Id="rId78" Type="http://schemas.openxmlformats.org/officeDocument/2006/relationships/audio" Target="../media/EXPLODE.WAV"/><Relationship Id="rId79" Type="http://schemas.openxmlformats.org/officeDocument/2006/relationships/audio" Target="../media/EXPLODE.WAV"/><Relationship Id="rId8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audio" Target="../media/CHIMES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ell whether it is reasonable for the graph to be represented by a linear model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1981080"/>
            <a:ext cx="2971800" cy="2438640"/>
            <a:chOff x="685800" y="1981080"/>
            <a:chExt cx="2971800" cy="2438640"/>
          </a:xfrm>
        </p:grpSpPr>
        <p:grpSp>
          <p:nvGrpSpPr>
            <p:cNvPr id="51" name=""/>
            <p:cNvGrpSpPr/>
            <p:nvPr/>
          </p:nvGrpSpPr>
          <p:grpSpPr>
            <a:xfrm>
              <a:off x="1219320" y="1981080"/>
              <a:ext cx="2438280" cy="2438640"/>
              <a:chOff x="1219320" y="1981080"/>
              <a:chExt cx="2438280" cy="2438640"/>
            </a:xfrm>
          </p:grpSpPr>
          <p:sp>
            <p:nvSpPr>
              <p:cNvPr id="52" name=""/>
              <p:cNvSpPr/>
              <p:nvPr/>
            </p:nvSpPr>
            <p:spPr>
              <a:xfrm>
                <a:off x="1219320" y="19810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19320" y="22860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19320" y="25909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28954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19320" y="32004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93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19320" y="38098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19320" y="41148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193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238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288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37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382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432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481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526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9320" y="320040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1981080"/>
              <a:ext cx="0" cy="2438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" y="198108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4648320" y="2209680"/>
            <a:ext cx="21049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 a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inear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d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ell whether it is reasonable for the graph to be represented by a linear model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2895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581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5800" y="1981080"/>
            <a:ext cx="2971800" cy="2438640"/>
            <a:chOff x="685800" y="1981080"/>
            <a:chExt cx="2971800" cy="2438640"/>
          </a:xfrm>
        </p:grpSpPr>
        <p:grpSp>
          <p:nvGrpSpPr>
            <p:cNvPr id="81" name=""/>
            <p:cNvGrpSpPr/>
            <p:nvPr/>
          </p:nvGrpSpPr>
          <p:grpSpPr>
            <a:xfrm>
              <a:off x="1219320" y="1981080"/>
              <a:ext cx="2438280" cy="2438640"/>
              <a:chOff x="1219320" y="1981080"/>
              <a:chExt cx="2438280" cy="2438640"/>
            </a:xfrm>
          </p:grpSpPr>
          <p:sp>
            <p:nvSpPr>
              <p:cNvPr id="82" name=""/>
              <p:cNvSpPr/>
              <p:nvPr/>
            </p:nvSpPr>
            <p:spPr>
              <a:xfrm>
                <a:off x="1219320" y="19810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219320" y="22860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19320" y="25909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219320" y="28954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19320" y="32004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193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19320" y="38098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19320" y="41148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2193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5238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288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337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4382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32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526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219320" y="320040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38280" y="1981080"/>
              <a:ext cx="0" cy="2438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198108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4495680" y="2209680"/>
            <a:ext cx="236232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inear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del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838080" y="3124080"/>
            <a:ext cx="3276720" cy="3281400"/>
            <a:chOff x="838080" y="3124080"/>
            <a:chExt cx="3276720" cy="3281400"/>
          </a:xfrm>
        </p:grpSpPr>
        <p:grpSp>
          <p:nvGrpSpPr>
            <p:cNvPr id="103" name=""/>
            <p:cNvGrpSpPr/>
            <p:nvPr/>
          </p:nvGrpSpPr>
          <p:grpSpPr>
            <a:xfrm>
              <a:off x="838080" y="3129120"/>
              <a:ext cx="3276720" cy="3276360"/>
              <a:chOff x="838080" y="3129120"/>
              <a:chExt cx="3276720" cy="3276360"/>
            </a:xfrm>
          </p:grpSpPr>
          <p:sp>
            <p:nvSpPr>
              <p:cNvPr id="104" name=""/>
              <p:cNvSpPr/>
              <p:nvPr/>
            </p:nvSpPr>
            <p:spPr>
              <a:xfrm>
                <a:off x="838080" y="39481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8080" y="42210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8080" y="44942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8080" y="47671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8080" y="50403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8080" y="53132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38080" y="55864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38080" y="58593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38080" y="61326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38080" y="36752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8080" y="31291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1132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84200" y="36752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5744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30320" y="36752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0356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76440" y="36752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4968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22560" y="36752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95440" y="31291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6868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41560" y="36752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8080" y="34020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38080" y="31291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V="1">
              <a:off x="1920960" y="31240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3. Use the data given i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. Make a scatter plot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. Write a linear model for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0880" y="1752480"/>
            <a:ext cx="8763120" cy="1143000"/>
            <a:chOff x="380880" y="1752480"/>
            <a:chExt cx="8763120" cy="1143000"/>
          </a:xfrm>
        </p:grpSpPr>
        <p:sp>
          <p:nvSpPr>
            <p:cNvPr id="132" name=""/>
            <p:cNvSpPr/>
            <p:nvPr/>
          </p:nvSpPr>
          <p:spPr>
            <a:xfrm>
              <a:off x="380880" y="1752480"/>
              <a:ext cx="8686800" cy="11430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2286000"/>
              <a:ext cx="8686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56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4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44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388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88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532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532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676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17524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ear                                      1990  1992   1994  1996  19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2362320"/>
              <a:ext cx="86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xpenditures(in millions)     50     210     350    490    6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746280" y="29973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38080" y="63244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6095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181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657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2895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   92   94   96   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9718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066320" y="2895480"/>
            <a:ext cx="2590920" cy="3505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029200"/>
            <a:ext cx="609480" cy="4572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267080"/>
            <a:ext cx="609480" cy="4572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1828800"/>
            <a:ext cx="762120" cy="9907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1828800"/>
            <a:ext cx="762120" cy="9907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094280" y="4191120"/>
                <a:ext cx="5049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4952880" y="4267080"/>
          <a:ext cx="1078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1078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53080" y="4267080"/>
          <a:ext cx="7714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267080"/>
                    <a:ext cx="771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23200" y="4267080"/>
          <a:ext cx="8208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23200" y="4267080"/>
                    <a:ext cx="820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114800" y="4800600"/>
          <a:ext cx="252108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800600"/>
                    <a:ext cx="2521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400800" y="4800600"/>
          <a:ext cx="11336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800600"/>
                    <a:ext cx="1133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394400" y="4800600"/>
          <a:ext cx="174960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94400" y="4800600"/>
                    <a:ext cx="1749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963960" y="2971800"/>
          <a:ext cx="2901960" cy="13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3960" y="297180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7120" y="3124080"/>
          <a:ext cx="92232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67120" y="3124080"/>
                    <a:ext cx="9223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835600" y="3124080"/>
          <a:ext cx="920880" cy="52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35600" y="3124080"/>
                    <a:ext cx="920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900680" y="3733920"/>
          <a:ext cx="70164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00680" y="3733920"/>
                    <a:ext cx="7016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942160" y="3733920"/>
          <a:ext cx="704880" cy="52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2160" y="3733920"/>
                    <a:ext cx="7048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783480" y="2971800"/>
          <a:ext cx="1361880" cy="1479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83480" y="2971800"/>
                    <a:ext cx="13618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053120" y="3124080"/>
          <a:ext cx="1229040" cy="522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53120" y="3124080"/>
                    <a:ext cx="12290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194600" y="3733920"/>
          <a:ext cx="747720" cy="52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194600" y="3733920"/>
                    <a:ext cx="747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8024760" y="3352680"/>
          <a:ext cx="1096920" cy="522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024760" y="3352680"/>
                    <a:ext cx="1096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689960" y="5257800"/>
          <a:ext cx="1454040" cy="614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689960" y="5257800"/>
                    <a:ext cx="1454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648320" y="5257800"/>
          <a:ext cx="1454040" cy="612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648320" y="5257800"/>
                    <a:ext cx="14540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724280" y="5943600"/>
            <a:ext cx="4191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486400" y="6095880"/>
          <a:ext cx="514440" cy="762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4864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943600" y="5943600"/>
          <a:ext cx="1644480" cy="609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943600" y="5943600"/>
                    <a:ext cx="1644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396200" y="5943600"/>
          <a:ext cx="1747800" cy="6094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96200" y="5943600"/>
                    <a:ext cx="1747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. Use the model found in Exercise 3 to estimate the expenditures in 199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81080" y="1523880"/>
          <a:ext cx="38577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38577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676520" y="2133720"/>
                <a:ext cx="46306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3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8" name=""/>
          <p:cNvGraphicFramePr/>
          <p:nvPr/>
        </p:nvGraphicFramePr>
        <p:xfrm>
          <a:off x="3429000" y="2209680"/>
          <a:ext cx="77148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209680"/>
                    <a:ext cx="771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47920" y="3048120"/>
          <a:ext cx="416700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048120"/>
                    <a:ext cx="41670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86000" y="3962520"/>
          <a:ext cx="2438280" cy="10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962520"/>
                    <a:ext cx="24382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8T13:37:39Z</dcterms:modified>
  <cp:revision>218</cp:revision>
  <dc:subject/>
  <dc:title>No Slide Title</dc:title>
</cp:coreProperties>
</file>